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18.wmf" ContentType="image/x-wmf"/>
  <Override PartName="/ppt/media/image17.wmf" ContentType="image/x-wmf"/>
  <Override PartName="/ppt/media/image4.wmf" ContentType="image/x-wmf"/>
  <Override PartName="/ppt/media/image2.jpeg" ContentType="image/jpeg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1.jpeg" ContentType="image/jpeg"/>
  <Override PartName="/ppt/media/image15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4C91-29A2-46DF-A670-B3C1431F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A47C-7DB7-4D59-9E90-ACC6581F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7CA4-FA1F-46D2-80E3-FB5C3BAD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14E2-4E42-4E66-AD10-C6C355C6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DE89-7727-40CC-89A9-14E03FCF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0AE3-6869-47F6-9FF6-72B86641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2FB7-E11E-45A2-B7B2-F26A73AD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3692-8055-4796-B722-0FC7DA5C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6249-FD5C-4D73-8A6F-89AA47D3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9794-BD5A-4082-A0C7-63F188C4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5789-623A-445B-8DAA-7AD3BB15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51B3-2F94-47D7-A7E1-FC1B1436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56D3-920E-492C-8CDB-14EB90F0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EC95-C673-4FD9-B4E1-D5CC15E3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E793-8599-4AC6-8433-F018B2C7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8846-B9B5-4B3B-AA21-6BB1D423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2E85-5434-4B6A-A07A-F10E6170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DBD8-081A-4033-AB00-AFBB443C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8DB7-6CC9-43D4-B481-2A9A266F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993C-DC8F-4439-BF34-C9A38C30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2C86-F05E-42F2-B7DC-7E5AE26E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D543-A37F-41CE-9D87-C37BEDAB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7CAC-395E-44DC-903D-E0019095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10C3-9A4E-4867-921D-ED9D8515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993E-C45F-41DE-B89F-36845853FB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F30B-8A8C-4762-94DD-3EFABA0121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ssessing the resistive capabilities of urban environment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st graduate ro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ck Da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0m wave best fit friction val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24000" y="1700280"/>
          <a:ext cx="8208720" cy="47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00280"/>
                    <a:ext cx="8208720" cy="47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ction selection behaves as ex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 facto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dth/den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y in measuring these parameter from the real world enviro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nges in wave he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1569960"/>
            <a:ext cx="914400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nges in inundation tim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539640" y="1330200"/>
            <a:ext cx="813600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ve height datu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ve height datu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13600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me Datu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35344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me Datu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8036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76480" y="277920"/>
            <a:ext cx="685152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alistic hydrodynamic behaviour of mode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5329080" cy="3757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780000" y="2695680"/>
            <a:ext cx="5111640" cy="37083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724360" y="1413000"/>
            <a:ext cx="324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istive capabilities of the small obstacles play an important role in resisting the inundating w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5084640"/>
            <a:ext cx="33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ly implementation of many small object in ANUGA is computational expen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Heavy Model Math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68360" y="4724280"/>
                <a:ext cx="1800000" cy="15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  <m:r>
                              <m:t xml:space="preserve">/</m:t>
                            </m:r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20" name=""/>
          <p:cNvGraphicFramePr/>
          <p:nvPr/>
        </p:nvGraphicFramePr>
        <p:xfrm>
          <a:off x="468360" y="1000080"/>
          <a:ext cx="5761080" cy="32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00080"/>
                    <a:ext cx="5761080" cy="32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484360" y="4653000"/>
                <a:ext cx="320688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gη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/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h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4464000" y="9810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H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olume and Momentum conser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H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cing terms, gravity and fri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7640" y="2257560"/>
            <a:ext cx="2665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nservation of volume within cell over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als with fluxes between c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940360" y="4941720"/>
            <a:ext cx="2987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ravity forcing 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iction forcing 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nning’s formul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330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rimarily derived to help with open channel flow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anning formula calculates equivalent friction bedsl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084720" y="765000"/>
          <a:ext cx="2303640" cy="14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765000"/>
                    <a:ext cx="230364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19640" y="2205000"/>
            <a:ext cx="3600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AU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Equivalent bedslope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fri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Water volume velo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Water depth of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empirically derived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friction coeffici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74880" y="4653000"/>
            <a:ext cx="669600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73080" y="4005360"/>
            <a:ext cx="6769080" cy="1511280"/>
          </a:xfrm>
          <a:custGeom>
            <a:avLst/>
            <a:gdLst/>
            <a:ahLst/>
            <a:rect l="l" t="t" r="r" b="b"/>
            <a:pathLst>
              <a:path w="4264" h="952">
                <a:moveTo>
                  <a:pt x="0" y="408"/>
                </a:moveTo>
                <a:lnTo>
                  <a:pt x="0" y="0"/>
                </a:lnTo>
                <a:lnTo>
                  <a:pt x="4264" y="544"/>
                </a:lnTo>
                <a:lnTo>
                  <a:pt x="4264" y="952"/>
                </a:lnTo>
                <a:lnTo>
                  <a:pt x="0" y="408"/>
                </a:lnTo>
                <a:close/>
              </a:path>
            </a:pathLst>
          </a:custGeom>
          <a:solidFill>
            <a:srgbClr val="afe1ff">
              <a:alpha val="46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73080" y="4653000"/>
            <a:ext cx="6769080" cy="1224000"/>
          </a:xfrm>
          <a:custGeom>
            <a:avLst/>
            <a:gdLst/>
            <a:ahLst/>
            <a:rect l="l" t="t" r="r" b="b"/>
            <a:pathLst>
              <a:path w="4264" h="771">
                <a:moveTo>
                  <a:pt x="0" y="0"/>
                </a:moveTo>
                <a:lnTo>
                  <a:pt x="4264" y="544"/>
                </a:lnTo>
                <a:lnTo>
                  <a:pt x="4264" y="771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25440" y="4438800"/>
            <a:ext cx="8282160" cy="792000"/>
          </a:xfrm>
          <a:prstGeom prst="line">
            <a:avLst/>
          </a:prstGeom>
          <a:ln w="1260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5440" y="4581360"/>
            <a:ext cx="8496360" cy="1079640"/>
          </a:xfrm>
          <a:prstGeom prst="line">
            <a:avLst/>
          </a:prstGeom>
          <a:ln w="1260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62160" y="4222800"/>
            <a:ext cx="1727280" cy="2160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22520" y="4438800"/>
            <a:ext cx="1582560" cy="2156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22520" y="4654440"/>
            <a:ext cx="1727280" cy="2160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73080" y="42228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278160" y="5014440"/>
            <a:ext cx="432000" cy="57492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33440" y="5373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riction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431560" y="407196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AU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471160" y="529596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AU" sz="1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08000" y="5877000"/>
            <a:ext cx="403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teady state is reached when </a:t>
            </a:r>
            <a:r>
              <a:rPr b="1" i="1" lang="en-AU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AU" sz="16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A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i="1" lang="en-AU" sz="16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1" i="1" lang="en-AU" sz="16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 set up: Open channel flo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95520" y="1968480"/>
            <a:ext cx="5794200" cy="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50280" y="2290680"/>
            <a:ext cx="1127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eadth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p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90880" y="3413160"/>
            <a:ext cx="1127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95520" y="2130480"/>
            <a:ext cx="57942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17720" y="2130480"/>
            <a:ext cx="1125360" cy="1125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50280" y="2130480"/>
            <a:ext cx="2880" cy="1125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17720" y="341784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73320" y="3095640"/>
            <a:ext cx="322200" cy="14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73320" y="2290680"/>
            <a:ext cx="32220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73320" y="2451240"/>
            <a:ext cx="322200" cy="288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73320" y="2612880"/>
            <a:ext cx="32220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73320" y="2773440"/>
            <a:ext cx="322200" cy="32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73320" y="2935440"/>
            <a:ext cx="322200" cy="14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4000" y="2451240"/>
            <a:ext cx="96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3320" y="2130480"/>
            <a:ext cx="322200" cy="14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73320" y="3255840"/>
            <a:ext cx="322200" cy="32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17720" y="2290680"/>
            <a:ext cx="11253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uild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riction z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3080" y="1585800"/>
            <a:ext cx="34070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pth/length = 100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68360" y="4005360"/>
            <a:ext cx="8147160" cy="2501640"/>
            <a:chOff x="468360" y="4005360"/>
            <a:chExt cx="8147160" cy="250164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468360" y="4005360"/>
              <a:ext cx="8147160" cy="25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11200" y="4652640"/>
              <a:ext cx="96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W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82880" y="5229000"/>
              <a:ext cx="3222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25800" y="5084640"/>
              <a:ext cx="322200" cy="10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70160" y="4938480"/>
              <a:ext cx="3222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92360" y="5516280"/>
              <a:ext cx="11257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building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zo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68360" y="4005360"/>
            <a:ext cx="8147160" cy="2496960"/>
            <a:chOff x="468360" y="4005360"/>
            <a:chExt cx="8147160" cy="2496960"/>
          </a:xfrm>
        </p:grpSpPr>
        <p:pic>
          <p:nvPicPr>
            <p:cNvPr id="275" name="" descr=""/>
            <p:cNvPicPr/>
            <p:nvPr/>
          </p:nvPicPr>
          <p:blipFill>
            <a:blip r:embed="rId2"/>
            <a:stretch/>
          </p:blipFill>
          <p:spPr>
            <a:xfrm>
              <a:off x="468360" y="4005360"/>
              <a:ext cx="8147160" cy="24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405080" y="5489640"/>
              <a:ext cx="11257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Fri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zo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8360" y="4581720"/>
              <a:ext cx="96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W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28720" y="4940280"/>
              <a:ext cx="32256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4360" y="5085000"/>
              <a:ext cx="3222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41440" y="5229360"/>
              <a:ext cx="3222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020000" y="2133720"/>
            <a:ext cx="322200" cy="1128600"/>
            <a:chOff x="7020000" y="2133720"/>
            <a:chExt cx="322200" cy="1128600"/>
          </a:xfrm>
        </p:grpSpPr>
        <p:sp>
          <p:nvSpPr>
            <p:cNvPr id="282" name=""/>
            <p:cNvSpPr/>
            <p:nvPr/>
          </p:nvSpPr>
          <p:spPr>
            <a:xfrm>
              <a:off x="7020000" y="3098880"/>
              <a:ext cx="3222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20000" y="2293920"/>
              <a:ext cx="3222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20000" y="2454120"/>
              <a:ext cx="3222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20000" y="2616120"/>
              <a:ext cx="32220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20000" y="2776680"/>
              <a:ext cx="322200" cy="28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20000" y="2938320"/>
              <a:ext cx="32220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20000" y="2133720"/>
              <a:ext cx="3222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20000" y="3259080"/>
              <a:ext cx="3222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938 0.00116 L 5.55556E-007 -4.79769E-006 E">
                                      <p:cBhvr>
                                        <p:cTn id="115" dur="3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0628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ding orientations and layou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19160" y="150012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17720" y="1951200"/>
            <a:ext cx="225360" cy="223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017720" y="240048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69880" y="1951200"/>
            <a:ext cx="223920" cy="223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68440" y="240048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19160" y="150012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919160" y="1951200"/>
            <a:ext cx="223920" cy="223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19160" y="240048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70240" y="1500120"/>
            <a:ext cx="2235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370240" y="1951200"/>
            <a:ext cx="223560" cy="223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370240" y="240048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68440" y="150012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17720" y="285120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468440" y="285120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19160" y="285120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370240" y="285120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280120" y="138744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80120" y="1838160"/>
            <a:ext cx="225360" cy="223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80120" y="2287440"/>
            <a:ext cx="225360" cy="225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30840" y="206208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30840" y="251316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80120" y="138744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180120" y="1838160"/>
            <a:ext cx="225360" cy="223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180120" y="2287440"/>
            <a:ext cx="223920" cy="225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30840" y="161280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630840" y="206208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30840" y="2513160"/>
            <a:ext cx="2257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30840" y="161280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280120" y="273852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730840" y="296388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80120" y="273852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0840" y="2963880"/>
            <a:ext cx="2257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716360" y="206208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16360" y="150012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16360" y="161280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16360" y="172548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16360" y="183816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16360" y="195120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16360" y="138744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16360" y="2174760"/>
            <a:ext cx="45108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716360" y="296388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716360" y="2400480"/>
            <a:ext cx="451080" cy="14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16360" y="251316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16360" y="262584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716360" y="273852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716360" y="285120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716360" y="2287440"/>
            <a:ext cx="45108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16360" y="307656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53960" y="1454040"/>
            <a:ext cx="452520" cy="1688760"/>
            <a:chOff x="453960" y="1454040"/>
            <a:chExt cx="452520" cy="1688760"/>
          </a:xfrm>
        </p:grpSpPr>
        <p:sp>
          <p:nvSpPr>
            <p:cNvPr id="340" name=""/>
            <p:cNvSpPr/>
            <p:nvPr/>
          </p:nvSpPr>
          <p:spPr>
            <a:xfrm>
              <a:off x="453960" y="212976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3960" y="156636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3960" y="167904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3960" y="179172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3960" y="190440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3960" y="201708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3960" y="145404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3960" y="224172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3960" y="303048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3960" y="246744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3960" y="258012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3960" y="269280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3960" y="280512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3960" y="291780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3960" y="235476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3960" y="314244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254560" y="2147760"/>
            <a:ext cx="26352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786280" y="2013120"/>
            <a:ext cx="26856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5651640" y="2013120"/>
            <a:ext cx="1440" cy="1346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82800" y="2281320"/>
            <a:ext cx="264960" cy="14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521000" y="2279520"/>
            <a:ext cx="26352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49880" y="1744560"/>
            <a:ext cx="26352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653080" y="1744560"/>
            <a:ext cx="0" cy="13356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27080" y="2279520"/>
            <a:ext cx="26532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2700000">
            <a:off x="985320" y="3992400"/>
            <a:ext cx="233640" cy="233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2700000">
            <a:off x="983880" y="4460760"/>
            <a:ext cx="2350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2700000">
            <a:off x="984600" y="4929840"/>
            <a:ext cx="2332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2700000">
            <a:off x="1454400" y="4461480"/>
            <a:ext cx="2332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2700000">
            <a:off x="1453680" y="4930920"/>
            <a:ext cx="233280" cy="233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2700000">
            <a:off x="1922760" y="3991320"/>
            <a:ext cx="23364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2700000">
            <a:off x="1922040" y="4460760"/>
            <a:ext cx="2350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700000">
            <a:off x="1922760" y="4929840"/>
            <a:ext cx="2332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2700000">
            <a:off x="2392560" y="3991320"/>
            <a:ext cx="23364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2700000">
            <a:off x="2391840" y="4460760"/>
            <a:ext cx="2350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2700000">
            <a:off x="2391840" y="4930560"/>
            <a:ext cx="23472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2700000">
            <a:off x="1453680" y="3992400"/>
            <a:ext cx="233640" cy="233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2700000">
            <a:off x="983880" y="5398920"/>
            <a:ext cx="2350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2700000">
            <a:off x="1452960" y="5399280"/>
            <a:ext cx="235080" cy="233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2700000">
            <a:off x="1922760" y="5399640"/>
            <a:ext cx="2332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2700000">
            <a:off x="2391840" y="5398920"/>
            <a:ext cx="2350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2700000">
            <a:off x="5303880" y="3875040"/>
            <a:ext cx="233280" cy="23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2700000">
            <a:off x="5302440" y="4343760"/>
            <a:ext cx="23364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2700000">
            <a:off x="5302440" y="4812120"/>
            <a:ext cx="23364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2700000">
            <a:off x="5772600" y="4578840"/>
            <a:ext cx="23328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2700000">
            <a:off x="5772600" y="5047200"/>
            <a:ext cx="23328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2700000">
            <a:off x="6240960" y="3873960"/>
            <a:ext cx="23328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rot="2700000">
            <a:off x="6240960" y="4343760"/>
            <a:ext cx="23364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2700000">
            <a:off x="6240960" y="4812120"/>
            <a:ext cx="23364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2700000">
            <a:off x="6710760" y="4109040"/>
            <a:ext cx="2332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2700000">
            <a:off x="6710040" y="4578120"/>
            <a:ext cx="23472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2700000">
            <a:off x="6710760" y="5047200"/>
            <a:ext cx="2332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2700000">
            <a:off x="5772600" y="4109040"/>
            <a:ext cx="23328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2700000">
            <a:off x="5301720" y="5281560"/>
            <a:ext cx="2350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2700000">
            <a:off x="5772240" y="5516640"/>
            <a:ext cx="23472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2700000">
            <a:off x="6240960" y="5282280"/>
            <a:ext cx="23328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2700000">
            <a:off x="6710040" y="5516280"/>
            <a:ext cx="23472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773600" y="3932280"/>
            <a:ext cx="468360" cy="1758960"/>
            <a:chOff x="4773600" y="3932280"/>
            <a:chExt cx="468360" cy="1758960"/>
          </a:xfrm>
        </p:grpSpPr>
        <p:sp>
          <p:nvSpPr>
            <p:cNvPr id="397" name=""/>
            <p:cNvSpPr/>
            <p:nvPr/>
          </p:nvSpPr>
          <p:spPr>
            <a:xfrm>
              <a:off x="4773600" y="463572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773600" y="404928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73600" y="416664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773600" y="428400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73600" y="4401360"/>
              <a:ext cx="46836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73600" y="451836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73600" y="3932280"/>
              <a:ext cx="46836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773600" y="4752360"/>
              <a:ext cx="46836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773600" y="557388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773600" y="498744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773600" y="510480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773600" y="522216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773600" y="5339520"/>
              <a:ext cx="46836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73600" y="545652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73600" y="4870440"/>
              <a:ext cx="46836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773600" y="5690520"/>
              <a:ext cx="46836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53960" y="3932280"/>
            <a:ext cx="469800" cy="1758960"/>
            <a:chOff x="453960" y="3932280"/>
            <a:chExt cx="469800" cy="1758960"/>
          </a:xfrm>
        </p:grpSpPr>
        <p:sp>
          <p:nvSpPr>
            <p:cNvPr id="414" name=""/>
            <p:cNvSpPr/>
            <p:nvPr/>
          </p:nvSpPr>
          <p:spPr>
            <a:xfrm>
              <a:off x="453960" y="463572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3960" y="404928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3960" y="416664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3960" y="428400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3960" y="4401360"/>
              <a:ext cx="46980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3960" y="451836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3960" y="3932280"/>
              <a:ext cx="46980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3960" y="4752360"/>
              <a:ext cx="46980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53960" y="557388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3960" y="498744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53960" y="510480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3960" y="522216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53960" y="5339520"/>
              <a:ext cx="46980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53960" y="545652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3960" y="4870440"/>
              <a:ext cx="46980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3960" y="5690520"/>
              <a:ext cx="46980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684360" y="59500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4 scenarios should bracket what friction values are possible for urban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43280" y="148428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aigh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r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off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020000" y="141300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aight offse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r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fect’ off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843280" y="400536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Rotat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4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r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No off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164360" y="4005360"/>
            <a:ext cx="19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Rotated Offse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4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rot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perfect’ Off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lection of friction valu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250920" y="1549440"/>
            <a:ext cx="5545080" cy="418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7" name=""/>
          <p:cNvGraphicFramePr/>
          <p:nvPr/>
        </p:nvGraphicFramePr>
        <p:xfrm>
          <a:off x="5940360" y="1577880"/>
          <a:ext cx="2916360" cy="147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577880"/>
                    <a:ext cx="2916360" cy="14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5940360" y="3357720"/>
            <a:ext cx="320364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tive RMS test  compared friction and  building water lev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friction scenarios were compared to a candidate friction scen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ched value was deemed to have the lowest RMS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88312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points between the buildings were used to compare stage lev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0m wave best fit friction val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903240" y="1600200"/>
            <a:ext cx="7335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0m wave best fit friction val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903240" y="1600200"/>
            <a:ext cx="7335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00:03:08Z</dcterms:created>
  <dc:creator>dando nicholas</dc:creator>
  <dc:description/>
  <dc:language>en-US</dc:language>
  <cp:lastModifiedBy>dando nicholas</cp:lastModifiedBy>
  <dcterms:modified xsi:type="dcterms:W3CDTF">2006-06-23T04:56:44Z</dcterms:modified>
  <cp:revision>26</cp:revision>
  <dc:subject/>
  <dc:title>Assessing the resistive capabilities of urban environ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