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wmf" ContentType="image/x-wmf"/>
  <Override PartName="/ppt/media/image12.wmf" ContentType="image/x-wmf"/>
  <Override PartName="/ppt/media/image18.wmf" ContentType="image/x-wmf"/>
  <Override PartName="/ppt/media/image17.wmf" ContentType="image/x-wmf"/>
  <Override PartName="/ppt/media/image4.wmf" ContentType="image/x-wmf"/>
  <Override PartName="/ppt/media/image2.jpeg" ContentType="image/jpeg"/>
  <Override PartName="/ppt/media/image3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1.jpeg" ContentType="image/jpeg"/>
  <Override PartName="/ppt/media/image15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6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5C5E-76BE-4916-B7E3-33D658C75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4348-96A0-487D-B506-0DC045C9F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08EF-56E7-4A51-ABE0-5D232FED5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865D-8C63-4396-B20D-84A15CA47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A6124-4D75-4E1E-A3AA-1E45CEB3B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5A9E8-E1D9-47F1-8838-54522198A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033EA-B57A-41D4-9534-D636E1DE3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06420-54BC-4FF0-B2C3-BCADB641D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233C6-FB85-4A33-9D68-7A68AE450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F1861-6585-49E7-90D7-4245DE9D5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7C96E-7210-4855-B068-C444DCF58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FD60-66C2-43FE-AF84-5BE0D0F45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65086-562B-42C2-A23D-048FF1FD7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92574-AFE3-45FF-AEEA-2ADD63114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E6D0B-C7BC-4EE9-BDE1-60E1922E4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04F5A-E877-4277-9C0F-E941E2B02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4AA97-8A1B-4E12-8075-9D1BD8672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D9E7-EF1A-40AC-B2E0-8F80F8034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CE2E-629E-48D4-BFAE-C22DDA80F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A228-0CB1-40DE-B6E3-040BC41CD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E4FC-6E13-4917-B383-BCBD88D01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C82D-499A-4922-833E-03E9B9E17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0066-5780-4B6A-8D89-A6FAB5F40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05E5-9277-4E08-AB51-E77B76414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26573-5D9F-49F3-ACBD-D711E050D2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F80BD-286A-425D-809B-3A5A71A770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Assessing the resistive capabilities of urban environments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st graduate ro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ick Dan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M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20m wave best fit friction valu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324000" y="1700280"/>
          <a:ext cx="8208720" cy="473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700280"/>
                    <a:ext cx="8208720" cy="47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iction selection behaves as expec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ortant factor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dth/dens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f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iculty in measuring these parameter from the real world environ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hanges in wave heigh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0" y="1569960"/>
            <a:ext cx="9144000" cy="52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hanges in inundation tim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539640" y="1330200"/>
            <a:ext cx="8136000" cy="50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ave height datu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207280" cy="47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ave height datu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468360" y="2133720"/>
            <a:ext cx="8136000" cy="42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ime Datu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395280" y="1989000"/>
            <a:ext cx="8353440" cy="43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ime Datu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8280360" cy="43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76480" y="277920"/>
            <a:ext cx="685152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Realistic hydrodynamic behaviour of model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5329080" cy="37576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780000" y="2695680"/>
            <a:ext cx="5111640" cy="37083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5724360" y="1413000"/>
            <a:ext cx="3240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resistive capabilities of the small obstacles play an important role in resisting the inundating wa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5280" y="5084640"/>
            <a:ext cx="338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rrently implementation of many small object in ANUGA is computational expens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Heavy Model Math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468360" y="4724280"/>
                <a:ext cx="1800000" cy="157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0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  <m:r>
                              <m:t xml:space="preserve">/</m:t>
                            </m:r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220" name=""/>
          <p:cNvGraphicFramePr/>
          <p:nvPr/>
        </p:nvGraphicFramePr>
        <p:xfrm>
          <a:off x="468360" y="1000080"/>
          <a:ext cx="5761080" cy="329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000080"/>
                    <a:ext cx="5761080" cy="329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2484360" y="4653000"/>
                <a:ext cx="3206880" cy="15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gη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num>
                      <m:den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4</m:t>
                            </m:r>
                            <m:r>
                              <m:t xml:space="preserve">/</m:t>
                            </m:r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0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uh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3" name=""/>
          <p:cNvSpPr/>
          <p:nvPr/>
        </p:nvSpPr>
        <p:spPr>
          <a:xfrm>
            <a:off x="4464000" y="981000"/>
            <a:ext cx="457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HS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Volume and Momentum conserv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HS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orcing terms, gravity and fri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227640" y="2257560"/>
            <a:ext cx="26654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conservation of volume within cell over 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eals with fluxes between ce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940360" y="4941720"/>
            <a:ext cx="298764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gravity forcing te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riction forcing te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Manning’s formul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330440" cy="29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Primarily derived to help with open channel flow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Manning formula calculates equivalent friction bedslo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6084720" y="765000"/>
          <a:ext cx="2303640" cy="144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84720" y="765000"/>
                    <a:ext cx="2303640" cy="14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219640" y="2205000"/>
            <a:ext cx="360036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i="1" lang="en-AU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Equivalent bedslope 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fri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Water volume veloc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Water depth of ce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empirically derived 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friction coeffici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974880" y="4653000"/>
            <a:ext cx="6696000" cy="863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973080" y="4005360"/>
            <a:ext cx="6769080" cy="1511280"/>
          </a:xfrm>
          <a:custGeom>
            <a:avLst/>
            <a:gdLst/>
            <a:ahLst/>
            <a:rect l="l" t="t" r="r" b="b"/>
            <a:pathLst>
              <a:path w="4264" h="952">
                <a:moveTo>
                  <a:pt x="0" y="408"/>
                </a:moveTo>
                <a:lnTo>
                  <a:pt x="0" y="0"/>
                </a:lnTo>
                <a:lnTo>
                  <a:pt x="4264" y="544"/>
                </a:lnTo>
                <a:lnTo>
                  <a:pt x="4264" y="952"/>
                </a:lnTo>
                <a:lnTo>
                  <a:pt x="0" y="408"/>
                </a:lnTo>
                <a:close/>
              </a:path>
            </a:pathLst>
          </a:custGeom>
          <a:solidFill>
            <a:srgbClr val="afe1ff">
              <a:alpha val="46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973080" y="4653000"/>
            <a:ext cx="6769080" cy="1224000"/>
          </a:xfrm>
          <a:custGeom>
            <a:avLst/>
            <a:gdLst/>
            <a:ahLst/>
            <a:rect l="l" t="t" r="r" b="b"/>
            <a:pathLst>
              <a:path w="4264" h="771">
                <a:moveTo>
                  <a:pt x="0" y="0"/>
                </a:moveTo>
                <a:lnTo>
                  <a:pt x="4264" y="544"/>
                </a:lnTo>
                <a:lnTo>
                  <a:pt x="4264" y="771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325440" y="4438800"/>
            <a:ext cx="8282160" cy="792000"/>
          </a:xfrm>
          <a:prstGeom prst="line">
            <a:avLst/>
          </a:prstGeom>
          <a:ln w="1260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25440" y="4581360"/>
            <a:ext cx="8496360" cy="1079640"/>
          </a:xfrm>
          <a:prstGeom prst="line">
            <a:avLst/>
          </a:prstGeom>
          <a:ln w="1260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262160" y="4222800"/>
            <a:ext cx="1727280" cy="21600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22520" y="4438800"/>
            <a:ext cx="1582560" cy="21564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22520" y="4654440"/>
            <a:ext cx="1727280" cy="21600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73080" y="42228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fl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278160" y="5014440"/>
            <a:ext cx="432000" cy="57492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333440" y="537372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Friction su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431560" y="4071960"/>
            <a:ext cx="377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i="1" lang="en-AU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8471160" y="5295960"/>
            <a:ext cx="413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i="1" lang="en-AU" sz="18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908000" y="5877000"/>
            <a:ext cx="4032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Steady state is reached when </a:t>
            </a:r>
            <a:r>
              <a:rPr b="1" i="1" lang="en-AU" sz="16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i="1" lang="en-AU" sz="16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i="1" lang="en-A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AU" sz="16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i="1" lang="en-AU" sz="1600" spc="-1" strike="noStrike">
                <a:solidFill>
                  <a:srgbClr val="ffffff"/>
                </a:solidFill>
                <a:latin typeface="Arial"/>
              </a:rPr>
              <a:t> S</a:t>
            </a:r>
            <a:r>
              <a:rPr b="1" i="1" lang="en-AU" sz="16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odel set up: Open channel flow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595520" y="1968480"/>
            <a:ext cx="5794200" cy="3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50280" y="2290680"/>
            <a:ext cx="112716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00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readth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ep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090880" y="3413160"/>
            <a:ext cx="1127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00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595520" y="2130480"/>
            <a:ext cx="57942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917720" y="2130480"/>
            <a:ext cx="1125360" cy="11253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550280" y="2130480"/>
            <a:ext cx="2880" cy="1125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917720" y="341784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273320" y="3095640"/>
            <a:ext cx="322200" cy="144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273320" y="2290680"/>
            <a:ext cx="322200" cy="180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273320" y="2451240"/>
            <a:ext cx="322200" cy="288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273320" y="2612880"/>
            <a:ext cx="322200" cy="180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273320" y="2773440"/>
            <a:ext cx="322200" cy="324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73320" y="2935440"/>
            <a:ext cx="322200" cy="144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4000" y="2451240"/>
            <a:ext cx="965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A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273320" y="2130480"/>
            <a:ext cx="322200" cy="144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273320" y="3255840"/>
            <a:ext cx="322200" cy="324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917720" y="2290680"/>
            <a:ext cx="112536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uildi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friction zo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043080" y="1585800"/>
            <a:ext cx="34070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90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epth/length = 1000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468360" y="4005360"/>
            <a:ext cx="8147160" cy="2501640"/>
            <a:chOff x="468360" y="4005360"/>
            <a:chExt cx="8147160" cy="2501640"/>
          </a:xfrm>
        </p:grpSpPr>
        <p:pic>
          <p:nvPicPr>
            <p:cNvPr id="268" name="" descr=""/>
            <p:cNvPicPr/>
            <p:nvPr/>
          </p:nvPicPr>
          <p:blipFill>
            <a:blip r:embed="rId1"/>
            <a:stretch/>
          </p:blipFill>
          <p:spPr>
            <a:xfrm>
              <a:off x="468360" y="4005360"/>
              <a:ext cx="8147160" cy="25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511200" y="4652640"/>
              <a:ext cx="9651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WAV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082880" y="5229000"/>
              <a:ext cx="32220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225800" y="5084640"/>
              <a:ext cx="322200" cy="108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370160" y="4938480"/>
              <a:ext cx="32220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692360" y="5516280"/>
              <a:ext cx="1125720" cy="80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building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zo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468360" y="4005360"/>
            <a:ext cx="8147160" cy="2496960"/>
            <a:chOff x="468360" y="4005360"/>
            <a:chExt cx="8147160" cy="2496960"/>
          </a:xfrm>
        </p:grpSpPr>
        <p:pic>
          <p:nvPicPr>
            <p:cNvPr id="275" name="" descr=""/>
            <p:cNvPicPr/>
            <p:nvPr/>
          </p:nvPicPr>
          <p:blipFill>
            <a:blip r:embed="rId2"/>
            <a:stretch/>
          </p:blipFill>
          <p:spPr>
            <a:xfrm>
              <a:off x="468360" y="4005360"/>
              <a:ext cx="8147160" cy="249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1405080" y="5489640"/>
              <a:ext cx="1125720" cy="8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Fricti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zo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68360" y="4581720"/>
              <a:ext cx="9651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WAV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28720" y="4940280"/>
              <a:ext cx="322560" cy="180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84360" y="5085000"/>
              <a:ext cx="32220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41440" y="5229360"/>
              <a:ext cx="32220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7020000" y="2133720"/>
            <a:ext cx="322200" cy="1128600"/>
            <a:chOff x="7020000" y="2133720"/>
            <a:chExt cx="322200" cy="1128600"/>
          </a:xfrm>
        </p:grpSpPr>
        <p:sp>
          <p:nvSpPr>
            <p:cNvPr id="282" name=""/>
            <p:cNvSpPr/>
            <p:nvPr/>
          </p:nvSpPr>
          <p:spPr>
            <a:xfrm>
              <a:off x="7020000" y="3098880"/>
              <a:ext cx="32220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020000" y="2293920"/>
              <a:ext cx="32220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020000" y="2454120"/>
              <a:ext cx="322200" cy="32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020000" y="2616120"/>
              <a:ext cx="322200" cy="180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020000" y="2776680"/>
              <a:ext cx="322200" cy="288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020000" y="2938320"/>
              <a:ext cx="322200" cy="180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20000" y="2133720"/>
              <a:ext cx="32220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020000" y="3259080"/>
              <a:ext cx="322200" cy="32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5938 0.00116 L 5.55556E-007 -4.79769E-006 E">
                                      <p:cBhvr>
                                        <p:cTn id="115" dur="3000" fill="hold"/>
                                        <p:tgtEl>
                                          <p:spTgt spid="2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0628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ding orientations and layou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019160" y="1500120"/>
            <a:ext cx="223920" cy="225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017720" y="1951200"/>
            <a:ext cx="225360" cy="2235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017720" y="2400480"/>
            <a:ext cx="225360" cy="225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469880" y="1951200"/>
            <a:ext cx="223920" cy="2235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468440" y="2400480"/>
            <a:ext cx="225360" cy="225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919160" y="1500120"/>
            <a:ext cx="223920" cy="225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919160" y="1951200"/>
            <a:ext cx="223920" cy="2235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919160" y="2400480"/>
            <a:ext cx="223920" cy="225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370240" y="1500120"/>
            <a:ext cx="223560" cy="225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370240" y="1951200"/>
            <a:ext cx="223560" cy="2235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370240" y="2400480"/>
            <a:ext cx="225360" cy="225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468440" y="1500120"/>
            <a:ext cx="225360" cy="225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017720" y="2851200"/>
            <a:ext cx="225360" cy="225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468440" y="2851200"/>
            <a:ext cx="225360" cy="225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919160" y="2851200"/>
            <a:ext cx="223920" cy="225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370240" y="2851200"/>
            <a:ext cx="225360" cy="225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280120" y="1387440"/>
            <a:ext cx="225360" cy="225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280120" y="1838160"/>
            <a:ext cx="225360" cy="223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280120" y="2287440"/>
            <a:ext cx="225360" cy="225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730840" y="2062080"/>
            <a:ext cx="223920" cy="225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730840" y="2513160"/>
            <a:ext cx="223920" cy="225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180120" y="1387440"/>
            <a:ext cx="225360" cy="225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180120" y="1838160"/>
            <a:ext cx="225360" cy="223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180120" y="2287440"/>
            <a:ext cx="223920" cy="225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630840" y="1612800"/>
            <a:ext cx="223920" cy="225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630840" y="2062080"/>
            <a:ext cx="223920" cy="225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630840" y="2513160"/>
            <a:ext cx="225720" cy="225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730840" y="1612800"/>
            <a:ext cx="223920" cy="225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280120" y="2738520"/>
            <a:ext cx="225360" cy="225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730840" y="2963880"/>
            <a:ext cx="223920" cy="225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180120" y="2738520"/>
            <a:ext cx="223920" cy="225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0840" y="2963880"/>
            <a:ext cx="225720" cy="225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716360" y="2062080"/>
            <a:ext cx="451080" cy="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716360" y="1500120"/>
            <a:ext cx="451080" cy="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716360" y="1612800"/>
            <a:ext cx="451080" cy="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716360" y="1725480"/>
            <a:ext cx="451080" cy="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716360" y="1838160"/>
            <a:ext cx="451080" cy="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716360" y="1951200"/>
            <a:ext cx="451080" cy="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716360" y="1387440"/>
            <a:ext cx="451080" cy="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716360" y="2174760"/>
            <a:ext cx="451080" cy="180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716360" y="2963880"/>
            <a:ext cx="451080" cy="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716360" y="2400480"/>
            <a:ext cx="451080" cy="144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716360" y="2513160"/>
            <a:ext cx="451080" cy="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716360" y="2625840"/>
            <a:ext cx="451080" cy="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716360" y="2738520"/>
            <a:ext cx="451080" cy="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716360" y="2851200"/>
            <a:ext cx="451080" cy="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716360" y="2287440"/>
            <a:ext cx="451080" cy="180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716360" y="3076560"/>
            <a:ext cx="451080" cy="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453960" y="1454040"/>
            <a:ext cx="452520" cy="1688760"/>
            <a:chOff x="453960" y="1454040"/>
            <a:chExt cx="452520" cy="1688760"/>
          </a:xfrm>
        </p:grpSpPr>
        <p:sp>
          <p:nvSpPr>
            <p:cNvPr id="340" name=""/>
            <p:cNvSpPr/>
            <p:nvPr/>
          </p:nvSpPr>
          <p:spPr>
            <a:xfrm>
              <a:off x="453960" y="2129760"/>
              <a:ext cx="452520" cy="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3960" y="1566360"/>
              <a:ext cx="452520" cy="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53960" y="1679040"/>
              <a:ext cx="452520" cy="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53960" y="1791720"/>
              <a:ext cx="452520" cy="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53960" y="1904400"/>
              <a:ext cx="452520" cy="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53960" y="2017080"/>
              <a:ext cx="452520" cy="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53960" y="1454040"/>
              <a:ext cx="452520" cy="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53960" y="2241720"/>
              <a:ext cx="452520" cy="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53960" y="3030480"/>
              <a:ext cx="452520" cy="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53960" y="2467440"/>
              <a:ext cx="452520" cy="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53960" y="2580120"/>
              <a:ext cx="452520" cy="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53960" y="2692800"/>
              <a:ext cx="452520" cy="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53960" y="2805120"/>
              <a:ext cx="452520" cy="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53960" y="2917800"/>
              <a:ext cx="452520" cy="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53960" y="2354760"/>
              <a:ext cx="452520" cy="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53960" y="3142440"/>
              <a:ext cx="452520" cy="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5254560" y="2147760"/>
            <a:ext cx="263520" cy="180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786280" y="2013120"/>
            <a:ext cx="268560" cy="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5651640" y="2013120"/>
            <a:ext cx="1440" cy="13464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982800" y="2281320"/>
            <a:ext cx="264960" cy="144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521000" y="2279520"/>
            <a:ext cx="263520" cy="180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249880" y="1744560"/>
            <a:ext cx="263520" cy="180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653080" y="1744560"/>
            <a:ext cx="0" cy="13356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927080" y="2279520"/>
            <a:ext cx="265320" cy="180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rot="2700000">
            <a:off x="985320" y="3992400"/>
            <a:ext cx="233640" cy="233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rot="2700000">
            <a:off x="983880" y="4460760"/>
            <a:ext cx="235080" cy="235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rot="2700000">
            <a:off x="984600" y="4929840"/>
            <a:ext cx="233280" cy="235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2700000">
            <a:off x="1454400" y="4461480"/>
            <a:ext cx="233280" cy="235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rot="2700000">
            <a:off x="1453680" y="4930920"/>
            <a:ext cx="233280" cy="233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rot="2700000">
            <a:off x="1922760" y="3991320"/>
            <a:ext cx="233640" cy="235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rot="2700000">
            <a:off x="1922040" y="4460760"/>
            <a:ext cx="235080" cy="235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2700000">
            <a:off x="1922760" y="4929840"/>
            <a:ext cx="233280" cy="235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rot="2700000">
            <a:off x="2392560" y="3991320"/>
            <a:ext cx="233640" cy="235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rot="2700000">
            <a:off x="2391840" y="4460760"/>
            <a:ext cx="235080" cy="235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rot="2700000">
            <a:off x="2391840" y="4930560"/>
            <a:ext cx="234720" cy="235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rot="2700000">
            <a:off x="1453680" y="3992400"/>
            <a:ext cx="233640" cy="233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rot="2700000">
            <a:off x="983880" y="5398920"/>
            <a:ext cx="235080" cy="235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rot="2700000">
            <a:off x="1452960" y="5399280"/>
            <a:ext cx="235080" cy="233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rot="2700000">
            <a:off x="1922760" y="5399640"/>
            <a:ext cx="233280" cy="235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rot="2700000">
            <a:off x="2391840" y="5398920"/>
            <a:ext cx="235080" cy="235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rot="2700000">
            <a:off x="5303880" y="3875040"/>
            <a:ext cx="233280" cy="23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rot="2700000">
            <a:off x="5302440" y="4343760"/>
            <a:ext cx="233640" cy="235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rot="2700000">
            <a:off x="5302440" y="4812120"/>
            <a:ext cx="233640" cy="235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rot="2700000">
            <a:off x="5772600" y="4578840"/>
            <a:ext cx="233280" cy="23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rot="2700000">
            <a:off x="5772600" y="5047200"/>
            <a:ext cx="233280" cy="23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rot="2700000">
            <a:off x="6240960" y="3873960"/>
            <a:ext cx="233280" cy="23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rot="2700000">
            <a:off x="6240960" y="4343760"/>
            <a:ext cx="233640" cy="23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rot="2700000">
            <a:off x="6240960" y="4812120"/>
            <a:ext cx="233640" cy="23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rot="2700000">
            <a:off x="6710760" y="4109040"/>
            <a:ext cx="233280" cy="235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rot="2700000">
            <a:off x="6710040" y="4578120"/>
            <a:ext cx="234720" cy="235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rot="2700000">
            <a:off x="6710760" y="5047200"/>
            <a:ext cx="233280" cy="235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rot="2700000">
            <a:off x="5772600" y="4109040"/>
            <a:ext cx="233280" cy="23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rot="2700000">
            <a:off x="5301720" y="5281560"/>
            <a:ext cx="235080" cy="235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rot="2700000">
            <a:off x="5772240" y="5516640"/>
            <a:ext cx="234720" cy="23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rot="2700000">
            <a:off x="6240960" y="5282280"/>
            <a:ext cx="233280" cy="23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rot="2700000">
            <a:off x="6710040" y="5516280"/>
            <a:ext cx="234720" cy="235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773600" y="3932280"/>
            <a:ext cx="468360" cy="1758960"/>
            <a:chOff x="4773600" y="3932280"/>
            <a:chExt cx="468360" cy="1758960"/>
          </a:xfrm>
        </p:grpSpPr>
        <p:sp>
          <p:nvSpPr>
            <p:cNvPr id="397" name=""/>
            <p:cNvSpPr/>
            <p:nvPr/>
          </p:nvSpPr>
          <p:spPr>
            <a:xfrm>
              <a:off x="4773600" y="4635720"/>
              <a:ext cx="468360" cy="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773600" y="4049280"/>
              <a:ext cx="468360" cy="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773600" y="4166640"/>
              <a:ext cx="468360" cy="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773600" y="4284000"/>
              <a:ext cx="468360" cy="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773600" y="4401360"/>
              <a:ext cx="468360" cy="72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773600" y="4518360"/>
              <a:ext cx="468360" cy="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773600" y="3932280"/>
              <a:ext cx="468360" cy="72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773600" y="4752360"/>
              <a:ext cx="468360" cy="72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773600" y="5573880"/>
              <a:ext cx="468360" cy="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773600" y="4987440"/>
              <a:ext cx="468360" cy="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773600" y="5104800"/>
              <a:ext cx="468360" cy="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773600" y="5222160"/>
              <a:ext cx="468360" cy="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773600" y="5339520"/>
              <a:ext cx="468360" cy="72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773600" y="5456520"/>
              <a:ext cx="468360" cy="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773600" y="4870440"/>
              <a:ext cx="468360" cy="72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773600" y="5690520"/>
              <a:ext cx="468360" cy="72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453960" y="3932280"/>
            <a:ext cx="469800" cy="1758960"/>
            <a:chOff x="453960" y="3932280"/>
            <a:chExt cx="469800" cy="1758960"/>
          </a:xfrm>
        </p:grpSpPr>
        <p:sp>
          <p:nvSpPr>
            <p:cNvPr id="414" name=""/>
            <p:cNvSpPr/>
            <p:nvPr/>
          </p:nvSpPr>
          <p:spPr>
            <a:xfrm>
              <a:off x="453960" y="4635720"/>
              <a:ext cx="469800" cy="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53960" y="4049280"/>
              <a:ext cx="469800" cy="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53960" y="4166640"/>
              <a:ext cx="469800" cy="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3960" y="4284000"/>
              <a:ext cx="469800" cy="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53960" y="4401360"/>
              <a:ext cx="469800" cy="72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53960" y="4518360"/>
              <a:ext cx="469800" cy="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53960" y="3932280"/>
              <a:ext cx="469800" cy="72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53960" y="4752360"/>
              <a:ext cx="469800" cy="72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53960" y="5573880"/>
              <a:ext cx="469800" cy="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53960" y="4987440"/>
              <a:ext cx="469800" cy="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53960" y="5104800"/>
              <a:ext cx="469800" cy="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3960" y="5222160"/>
              <a:ext cx="469800" cy="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53960" y="5339520"/>
              <a:ext cx="469800" cy="72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53960" y="5456520"/>
              <a:ext cx="469800" cy="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53960" y="4870440"/>
              <a:ext cx="469800" cy="72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53960" y="5690520"/>
              <a:ext cx="469800" cy="72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0" name=""/>
          <p:cNvSpPr/>
          <p:nvPr/>
        </p:nvSpPr>
        <p:spPr>
          <a:xfrm>
            <a:off x="684360" y="595008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se 4 scenarios should bracket what friction values are possible for urban environ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843280" y="1484280"/>
            <a:ext cx="172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raigh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 r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 offs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020000" y="1413000"/>
            <a:ext cx="21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raight offse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 r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fect’ offs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843280" y="4005360"/>
            <a:ext cx="172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Rotated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4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 r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No offs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164360" y="4005360"/>
            <a:ext cx="197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Rotated Offse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4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°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 rot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perfect’ Offs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election of friction valu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250920" y="1549440"/>
            <a:ext cx="5545080" cy="4184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7" name=""/>
          <p:cNvGraphicFramePr/>
          <p:nvPr/>
        </p:nvGraphicFramePr>
        <p:xfrm>
          <a:off x="5940360" y="1577880"/>
          <a:ext cx="2916360" cy="1478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40360" y="1577880"/>
                    <a:ext cx="2916360" cy="14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"/>
          <p:cNvSpPr/>
          <p:nvPr/>
        </p:nvSpPr>
        <p:spPr>
          <a:xfrm>
            <a:off x="5940360" y="3357720"/>
            <a:ext cx="3203640" cy="32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lative RMS test  compared friction and  building water leve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ny friction scenarios were compared to a candidate friction scenar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tched value was deemed to have the lowest RMS val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11280" y="5883120"/>
            <a:ext cx="47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1 points between the buildings were used to compare stage leve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20m wave best fit friction valu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903240" y="1600200"/>
            <a:ext cx="7335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20m wave best fit friction valu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1"/>
          <a:stretch/>
        </p:blipFill>
        <p:spPr>
          <a:xfrm>
            <a:off x="903240" y="1600200"/>
            <a:ext cx="7335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0T00:03:08Z</dcterms:created>
  <dc:creator>dando nicholas</dc:creator>
  <dc:description/>
  <dc:language>en-US</dc:language>
  <cp:lastModifiedBy>dando nicholas</cp:lastModifiedBy>
  <dcterms:modified xsi:type="dcterms:W3CDTF">2006-06-23T04:56:44Z</dcterms:modified>
  <cp:revision>26</cp:revision>
  <dc:subject/>
  <dc:title>Assessing the resistive capabilities of urban environme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