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4.png" ContentType="image/png"/>
  <Override PartName="/ppt/media/image10.wmf" ContentType="image/x-wmf"/>
  <Override PartName="/ppt/media/image2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26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6.png" ContentType="image/png"/>
  <Override PartName="/ppt/media/image3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12-C408-45F0-A9DE-44BE795E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F50-C9F8-4212-B5EA-7538DA1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0B5-0B97-459D-90A1-22337B10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231-352B-4019-B402-5372467C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2B0-0CC6-4D8C-B098-2850D9D7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9D0E-AD99-4D55-BA2C-E666FA1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9BB6-5804-49BC-B684-A1E3A82D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61C-92DA-4678-B138-E3C6B7E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DB41-BFE9-4EE7-A664-590A3323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941D-1175-497A-8468-1559929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9C3-920A-45F0-84B2-4BE9EC8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B84-4048-47ED-8DCE-7ABEA959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1CD-F4E5-47C9-B005-74FB001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3D3-D218-40ED-A8C1-E3516AB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D7CD-9DDE-4E45-9188-089CC09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88E9-06EE-4080-8E90-269FC1D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0F40-66E2-4FB2-AE53-B374AD0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284-38F3-4E5A-8CC0-9B9D143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03A-78EF-4C27-AEAF-406C5E3D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316-A6EB-4786-8EF9-71BAD6A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7D2-6A90-4ED8-9AD8-96E443F1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5CC-B6D2-4DAC-ABD4-1D7EB02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ECA-9288-4E13-B748-CBD92F3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4E8-7A3A-42B0-9CD2-2D55A5B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A67-37AA-4BF6-BA5B-00FF9C8D4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420-7C4A-4564-82C7-6A8DD73D3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sessing the resistive capabilities of urban environments to an inundating Tsunami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uate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D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-31680" y="981000"/>
            <a:ext cx="94280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parameters: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selection behaves a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a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/building 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measuring these parameters However building density can be used as base friction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sunami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investig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undation time 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from sh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depths aff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undating wave 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ographic a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rmine how changes affec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u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undation behavio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6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7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8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9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0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1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2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3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4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588000" y="1643040"/>
            <a:ext cx="2376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st cas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slower than building inun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matched friction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s worse for smaller wave heigh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different hydrodynamic behavi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wave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inundation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136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7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ccecff"/>
                </a:solidFill>
                <a:uFillTx/>
                <a:latin typeface="Arial"/>
              </a:rPr>
              <a:t>Datums and their us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531800"/>
            <a:ext cx="4032360" cy="2332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1627200"/>
            <a:ext cx="4038480" cy="21304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57200" y="3970440"/>
            <a:ext cx="4038480" cy="212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4648320" y="3971880"/>
            <a:ext cx="4038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it doesn’t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ular inundation times for Tsuna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 - 100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 or last part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mall inundation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atially varying water depths due to top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damental different hydrodynamic effects on the inundat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doesn’t reach steady state within Tsunami period we are looking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estimate friction values is better than overestimating friction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leads to the larg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685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istic hydrodynamic behaviour of mod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329080" cy="375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780000" y="2695680"/>
            <a:ext cx="5111640" cy="370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24360" y="141300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istive capabilities of the small obstacles play an important role in resisting the inundating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0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implementation of many small object in ANUGA is computational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ject aims and outp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f friction values to represent urban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of comparison and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environment variabl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are th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friction values and determine their su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eavy Model Mat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8360" y="4724280"/>
                <a:ext cx="1800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468360" y="1000080"/>
          <a:ext cx="576108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0080"/>
                    <a:ext cx="57610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484360" y="4653000"/>
                <a:ext cx="32068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h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464000" y="981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olume and Momentum con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cing terms, gravity and 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2257560"/>
            <a:ext cx="266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servation of volume within cell over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als with fluxes between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941720"/>
            <a:ext cx="2987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vity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n Channel Flow and Fri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30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imarily derived to help with open channel flow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ning formula calculates equivalent friction bed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84720" y="765000"/>
          <a:ext cx="230364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765000"/>
                    <a:ext cx="23036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05000"/>
            <a:ext cx="3600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quivalent bedslope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volume 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depth of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pirically deriv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 coe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0.005 – 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4880" y="4653000"/>
            <a:ext cx="6696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3080" y="4005360"/>
            <a:ext cx="6769080" cy="1511280"/>
          </a:xfrm>
          <a:custGeom>
            <a:avLst/>
            <a:gdLst/>
            <a:ahLst/>
            <a:rect l="l" t="t" r="r" b="b"/>
            <a:pathLst>
              <a:path w="4264" h="952">
                <a:moveTo>
                  <a:pt x="0" y="408"/>
                </a:moveTo>
                <a:lnTo>
                  <a:pt x="0" y="0"/>
                </a:lnTo>
                <a:lnTo>
                  <a:pt x="4264" y="544"/>
                </a:lnTo>
                <a:lnTo>
                  <a:pt x="4264" y="952"/>
                </a:lnTo>
                <a:lnTo>
                  <a:pt x="0" y="408"/>
                </a:lnTo>
                <a:close/>
              </a:path>
            </a:pathLst>
          </a:custGeom>
          <a:solidFill>
            <a:srgbClr val="afe1ff">
              <a:alpha val="46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3080" y="4653000"/>
            <a:ext cx="6769080" cy="1224000"/>
          </a:xfrm>
          <a:custGeom>
            <a:avLst/>
            <a:gdLst/>
            <a:ahLst/>
            <a:rect l="l" t="t" r="r" b="b"/>
            <a:pathLst>
              <a:path w="4264" h="771">
                <a:moveTo>
                  <a:pt x="0" y="0"/>
                </a:moveTo>
                <a:lnTo>
                  <a:pt x="4264" y="544"/>
                </a:lnTo>
                <a:lnTo>
                  <a:pt x="4264" y="771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25440" y="4438800"/>
            <a:ext cx="8282160" cy="7920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5440" y="4581360"/>
            <a:ext cx="8496360" cy="107964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2160" y="422280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22520" y="4438800"/>
            <a:ext cx="1582560" cy="21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22520" y="465444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080" y="4222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278160" y="5014440"/>
            <a:ext cx="432000" cy="574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3440" y="537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ictio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31560" y="40719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1160" y="529596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8000" y="5877000"/>
            <a:ext cx="403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eady state is reached when 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set up: Open channel 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95520" y="1968480"/>
            <a:ext cx="579420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0280" y="2290680"/>
            <a:ext cx="112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90880" y="3413160"/>
            <a:ext cx="112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95520" y="2130480"/>
            <a:ext cx="57942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2130480"/>
            <a:ext cx="1125360" cy="112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0280" y="2130480"/>
            <a:ext cx="2880" cy="11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17720" y="341784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3320" y="30956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3320" y="22906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73320" y="2451240"/>
            <a:ext cx="322200" cy="28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73320" y="26128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3320" y="27734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29354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45124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73320" y="213048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3320" y="32558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7720" y="2290680"/>
            <a:ext cx="112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ild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ric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3080" y="1585800"/>
            <a:ext cx="3407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ngth = 10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68360" y="4005360"/>
            <a:ext cx="8147160" cy="2501640"/>
            <a:chOff x="468360" y="4005360"/>
            <a:chExt cx="8147160" cy="250164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68360" y="4005360"/>
              <a:ext cx="81471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1200" y="465264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82880" y="5229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25800" y="5084640"/>
              <a:ext cx="322200" cy="1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0160" y="49384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5516280"/>
              <a:ext cx="11257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uil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68360" y="4005360"/>
            <a:ext cx="8147160" cy="2496960"/>
            <a:chOff x="468360" y="4005360"/>
            <a:chExt cx="8147160" cy="249696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68360" y="4005360"/>
              <a:ext cx="81471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405080" y="5489640"/>
              <a:ext cx="1125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ri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8360" y="458172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4940280"/>
              <a:ext cx="3225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4360" y="5085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440" y="522936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20000" y="2133720"/>
            <a:ext cx="322200" cy="1128600"/>
            <a:chOff x="7020000" y="2133720"/>
            <a:chExt cx="322200" cy="1128600"/>
          </a:xfrm>
        </p:grpSpPr>
        <p:sp>
          <p:nvSpPr>
            <p:cNvPr id="284" name=""/>
            <p:cNvSpPr/>
            <p:nvPr/>
          </p:nvSpPr>
          <p:spPr>
            <a:xfrm>
              <a:off x="7020000" y="30988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2939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45412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0000" y="26161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2776680"/>
              <a:ext cx="32220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29383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20000" y="21337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20000" y="325908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47640" y="2637000"/>
            <a:ext cx="1944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4653000"/>
            <a:ext cx="144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4653000"/>
            <a:ext cx="180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4653000"/>
            <a:ext cx="180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4653000"/>
            <a:ext cx="144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5640" y="4653000"/>
            <a:ext cx="144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4653000"/>
            <a:ext cx="180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5840" y="4653000"/>
            <a:ext cx="32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1480" y="4653000"/>
            <a:ext cx="32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7480" y="4653000"/>
            <a:ext cx="32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4653000"/>
            <a:ext cx="1944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227664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564000" y="2492280"/>
            <a:ext cx="792000" cy="1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11640" y="436572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419640" y="4508640"/>
            <a:ext cx="79200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938 0.00116 L 5.55556E-007 -4.79769E-006 E">
                                      <p:cBhvr>
                                        <p:cTn id="115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 of friction val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27600" y="1565280"/>
          <a:ext cx="31654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1565280"/>
                    <a:ext cx="31654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940360" y="3357720"/>
            <a:ext cx="3203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RMS test  compared friction and  building water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riction scenarios were compared to a candidate friction sce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ed value was deemed to have the lowest RMS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5661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points were used to compare stage levels at a specific time inter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327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68360" y="1395360"/>
          <a:ext cx="867564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5360"/>
                    <a:ext cx="867564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V="1">
            <a:off x="3276720" y="494136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443640" y="4941360"/>
            <a:ext cx="43200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093080" y="508428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948360" y="5084280"/>
            <a:ext cx="43200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012000" y="472392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4360" y="6021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it friction value is chosen by the minimum of the cur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6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orientations and layo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17720" y="1951200"/>
            <a:ext cx="2253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1772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6988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684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916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19160" y="24004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0240" y="1500120"/>
            <a:ext cx="2235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70240" y="1951200"/>
            <a:ext cx="2235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702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68440" y="15001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1772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684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19160" y="28512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702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80120" y="2287440"/>
            <a:ext cx="22536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30840" y="251316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80120" y="2287440"/>
            <a:ext cx="22392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30840" y="251316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80120" y="27385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30840" y="29638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80120" y="27385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30840" y="296388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16360" y="20620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15001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16360" y="16128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17254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16360" y="1838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19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16360" y="13874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217476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16360" y="29638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16360" y="2400480"/>
            <a:ext cx="45108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2513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6360" y="26258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16360" y="27385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16360" y="28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16360" y="228744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6360" y="30765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3960" y="1454040"/>
            <a:ext cx="452520" cy="1688760"/>
            <a:chOff x="453960" y="1454040"/>
            <a:chExt cx="452520" cy="1688760"/>
          </a:xfrm>
        </p:grpSpPr>
        <p:sp>
          <p:nvSpPr>
            <p:cNvPr id="373" name=""/>
            <p:cNvSpPr/>
            <p:nvPr/>
          </p:nvSpPr>
          <p:spPr>
            <a:xfrm>
              <a:off x="453960" y="2129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960" y="15663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3960" y="1679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960" y="179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3960" y="19044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3960" y="20170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3960" y="1454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3960" y="224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3960" y="30304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3960" y="2467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3960" y="2580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960" y="2692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960" y="2805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3960" y="2917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3960" y="2354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3960" y="3142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254560" y="21477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86280" y="20131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651640" y="2013120"/>
            <a:ext cx="1440" cy="134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82800" y="228132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21000" y="227952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49880" y="17445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53080" y="1744560"/>
            <a:ext cx="0" cy="1335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27080" y="2279520"/>
            <a:ext cx="2653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700000">
            <a:off x="98532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700000">
            <a:off x="98388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700000">
            <a:off x="98460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700000">
            <a:off x="1454400" y="446148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700000">
            <a:off x="1453680" y="4930920"/>
            <a:ext cx="2332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2700000">
            <a:off x="19227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700000">
            <a:off x="19220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700000">
            <a:off x="192276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700000">
            <a:off x="23925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700000">
            <a:off x="23918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700000">
            <a:off x="2391840" y="493056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700000">
            <a:off x="145368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700000">
            <a:off x="98388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700000">
            <a:off x="1452960" y="5399280"/>
            <a:ext cx="2350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700000">
            <a:off x="1922760" y="53996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700000">
            <a:off x="239184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700000">
            <a:off x="5303880" y="3875040"/>
            <a:ext cx="233280" cy="23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700000">
            <a:off x="5302440" y="434376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2700000">
            <a:off x="5302440" y="48121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700000">
            <a:off x="5772600" y="45788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700000">
            <a:off x="5772600" y="504720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2700000">
            <a:off x="6240960" y="387396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700000">
            <a:off x="6240960" y="434376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700000">
            <a:off x="6240960" y="481212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2700000">
            <a:off x="6710760" y="41090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2700000">
            <a:off x="6710040" y="457812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2700000">
            <a:off x="6710760" y="504720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700000">
            <a:off x="5772600" y="41090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2700000">
            <a:off x="5301720" y="52815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2700000">
            <a:off x="5772240" y="5516640"/>
            <a:ext cx="2347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2700000">
            <a:off x="6240960" y="528228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2700000">
            <a:off x="6710040" y="551628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73600" y="3932280"/>
            <a:ext cx="468360" cy="1758960"/>
            <a:chOff x="4773600" y="3932280"/>
            <a:chExt cx="468360" cy="1758960"/>
          </a:xfrm>
        </p:grpSpPr>
        <p:sp>
          <p:nvSpPr>
            <p:cNvPr id="430" name=""/>
            <p:cNvSpPr/>
            <p:nvPr/>
          </p:nvSpPr>
          <p:spPr>
            <a:xfrm>
              <a:off x="4773600" y="46357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73600" y="40492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73600" y="41666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3600" y="42840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73600" y="4401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3600" y="45183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3600" y="393228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73600" y="4752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73600" y="55738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73600" y="49874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73600" y="51048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73600" y="52221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3600" y="5339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3600" y="54565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3600" y="487044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3600" y="5690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3960" y="3932280"/>
            <a:ext cx="469800" cy="1758960"/>
            <a:chOff x="453960" y="3932280"/>
            <a:chExt cx="469800" cy="1758960"/>
          </a:xfrm>
        </p:grpSpPr>
        <p:sp>
          <p:nvSpPr>
            <p:cNvPr id="447" name=""/>
            <p:cNvSpPr/>
            <p:nvPr/>
          </p:nvSpPr>
          <p:spPr>
            <a:xfrm>
              <a:off x="453960" y="46357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3960" y="40492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3960" y="41666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3960" y="42840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3960" y="4401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3960" y="45183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960" y="393228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960" y="4752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3960" y="55738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3960" y="49874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960" y="51048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3960" y="52221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3960" y="5339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3960" y="54565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960" y="487044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3960" y="5690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84360" y="5950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four scenarios were thought to provide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ses for the inundating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1484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20000" y="14130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4328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64360" y="400536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71640" y="270684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09840" y="270504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16280" y="2705040"/>
            <a:ext cx="26496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84644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09840" y="184464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16280" y="1844640"/>
            <a:ext cx="26496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2563920"/>
            <a:ext cx="26352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51360" y="24289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616720" y="2428560"/>
            <a:ext cx="1440" cy="135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3059280"/>
            <a:ext cx="26352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51360" y="292428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616720" y="2923920"/>
            <a:ext cx="1440" cy="135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51640" y="2216160"/>
            <a:ext cx="0" cy="133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1640" y="2637000"/>
            <a:ext cx="0" cy="133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0:03:08Z</dcterms:created>
  <dc:creator>dando nicholas</dc:creator>
  <dc:description/>
  <dc:language>en-US</dc:language>
  <cp:lastModifiedBy>dando nicholas</cp:lastModifiedBy>
  <dcterms:modified xsi:type="dcterms:W3CDTF">2006-06-26T06:19:12Z</dcterms:modified>
  <cp:revision>44</cp:revision>
  <dc:subject/>
  <dc:title>Assessing the resistive capabilities of urban environ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