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8.wmf" ContentType="image/x-wmf"/>
  <Override PartName="/ppt/media/image24.png" ContentType="image/png"/>
  <Override PartName="/ppt/media/image10.wmf" ContentType="image/x-wmf"/>
  <Override PartName="/ppt/media/image25.png" ContentType="image/png"/>
  <Override PartName="/ppt/media/image1.jpeg" ContentType="image/jpeg"/>
  <Override PartName="/ppt/media/image7.png" ContentType="image/png"/>
  <Override PartName="/ppt/media/image11.wmf" ContentType="image/x-wmf"/>
  <Override PartName="/ppt/media/image26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30.wmf" ContentType="image/x-wmf"/>
  <Override PartName="/ppt/media/image31.wmf" ContentType="image/x-wmf"/>
  <Override PartName="/ppt/media/image32.wmf" ContentType="image/x-wmf"/>
  <Override PartName="/ppt/media/image6.png" ContentType="image/png"/>
  <Override PartName="/ppt/media/image3.wmf" ContentType="image/x-wmf"/>
  <Override PartName="/ppt/media/image5.png" ContentType="image/png"/>
  <Override PartName="/ppt/media/image4.wmf" ContentType="image/x-wmf"/>
  <Override PartName="/ppt/media/image27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8912-5DDF-4287-9E7E-CEFA6A9EB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4253-56B5-4519-BE30-BD6459EC4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9D40-154E-4B1B-809D-86E1F8785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60ED-D39C-4C4D-B431-AC8B08C0D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1C128-CB24-4CF2-966F-083908C74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286D0-AC30-4E74-97EF-475E99CA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D6D81-EE24-46EF-A1B2-C731DD194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6D421-021A-4CF4-865F-6B5C9741E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F7164-FDA3-4B5A-B312-A81CF5CE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F9B9-0895-4240-BA82-DAF7F93AF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44FE8-CCEF-4863-BDE7-72141985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135E-B68B-4D96-8A5D-44DB02F1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7353A-2A95-4E96-A393-4D2CBAD69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B3A0-DE75-40F6-AF67-E440B7C45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FC772-B449-48E7-BFA8-2A5C4EE6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6EE6-2BBF-4A5F-A3EA-42D9FD181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EFA34-D305-48C5-A73C-9553377B5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1880-A6AE-4999-A646-E9F1B3F77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BD1F-B306-4E83-B902-64CE338AB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254EA-C027-46C5-8AA0-E2C1AEEE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8C32-BE7C-45D4-9703-D9A15362D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A52A-05A5-425C-94CE-555C8F80C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4A19D-7171-4318-AFBD-BB6BF0B3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F785-8392-4B24-BE1E-CC0E761D1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8AD15-30DB-4121-ABA8-111C5A8D33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AA459-8564-41F0-BE45-B3EF0F7B0F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image" Target="../media/image24.png"/><Relationship Id="rId13" Type="http://schemas.openxmlformats.org/officeDocument/2006/relationships/image" Target="../media/image25.png"/><Relationship Id="rId14" Type="http://schemas.openxmlformats.org/officeDocument/2006/relationships/image" Target="../media/image26.png"/><Relationship Id="rId1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1884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Assessing the resistive capabilities of urban environments to an inundating Tsunami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40762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ffffff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graduate rot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ck Da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AM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-27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20m wave best fit friction val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-31680" y="981000"/>
            <a:ext cx="9428040" cy="581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ecff"/>
                </a:solidFill>
                <a:uFillTx/>
                <a:latin typeface="Arial"/>
              </a:rPr>
              <a:t>20m wave best fit friction val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1"/>
          <a:stretch/>
        </p:blipFill>
        <p:spPr>
          <a:xfrm>
            <a:off x="0" y="1042920"/>
            <a:ext cx="9144000" cy="56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ding parameters: </a:t>
            </a:r>
            <a:r>
              <a:rPr b="0" i="1" lang="en-US" sz="4400" spc="-1" strike="noStrike">
                <a:solidFill>
                  <a:srgbClr val="ccecff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ction selection behaves as exp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ortant factor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dth/building den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o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ff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iculty in measuring these parameters However building density can be used as base friction val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Tsunami variab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rther investig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undation time va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peri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from sh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ater depths affected 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undating wave heig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pographic a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Determine how changes affect resu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um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5483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undation behaviou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492" name="" descr=""/>
          <p:cNvPicPr/>
          <p:nvPr/>
        </p:nvPicPr>
        <p:blipFill>
          <a:blip r:embed="rId2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493" name="" descr=""/>
          <p:cNvPicPr/>
          <p:nvPr/>
        </p:nvPicPr>
        <p:blipFill>
          <a:blip r:embed="rId3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4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5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6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7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8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9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0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1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2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3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4"/>
          <a:stretch/>
        </p:blipFill>
        <p:spPr>
          <a:xfrm>
            <a:off x="468360" y="1628640"/>
            <a:ext cx="6119640" cy="45910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6588000" y="1643040"/>
            <a:ext cx="2376720" cy="38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most cas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iction slower than building inund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r all matched friction valu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s worse for smaller wave height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icates different hydrodynamic behaviour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nges in wave heigh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7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569080" cy="495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hanges in inundation tim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539640" y="1330200"/>
            <a:ext cx="813600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597672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 u="sng">
                <a:solidFill>
                  <a:srgbClr val="ccecff"/>
                </a:solidFill>
                <a:uFillTx/>
                <a:latin typeface="Arial"/>
              </a:rPr>
              <a:t>Datums and their uses: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511" name="" descr=""/>
          <p:cNvPicPr/>
          <p:nvPr/>
        </p:nvPicPr>
        <p:blipFill>
          <a:blip r:embed="rId1"/>
          <a:stretch/>
        </p:blipFill>
        <p:spPr>
          <a:xfrm>
            <a:off x="468360" y="1531800"/>
            <a:ext cx="4032360" cy="2332080"/>
          </a:xfrm>
          <a:prstGeom prst="rect">
            <a:avLst/>
          </a:prstGeom>
          <a:ln w="0">
            <a:noFill/>
          </a:ln>
        </p:spPr>
      </p:pic>
      <p:pic>
        <p:nvPicPr>
          <p:cNvPr id="512" name="" descr=""/>
          <p:cNvPicPr/>
          <p:nvPr/>
        </p:nvPicPr>
        <p:blipFill>
          <a:blip r:embed="rId2"/>
          <a:stretch/>
        </p:blipFill>
        <p:spPr>
          <a:xfrm>
            <a:off x="4648320" y="1627200"/>
            <a:ext cx="4038480" cy="213048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3"/>
          <a:stretch/>
        </p:blipFill>
        <p:spPr>
          <a:xfrm>
            <a:off x="457200" y="3970440"/>
            <a:ext cx="4038480" cy="212256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4"/>
          <a:stretch/>
        </p:blipFill>
        <p:spPr>
          <a:xfrm>
            <a:off x="4648320" y="3971880"/>
            <a:ext cx="4038480" cy="21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Why it doesn’t work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ular inundation times for Tsunami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0 - 1000 seco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ner or last parts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Small inundation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Spatially varying water depths due to topograph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Fundamental different hydrodynamic effects on the inundating wa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Recommendatio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iction doesn’t reach steady state within Tsunami period we are looking 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estimate friction values is better than overestimating friction valu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is what leads to the large error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176480" y="277920"/>
            <a:ext cx="6851520" cy="84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Realistic hydrodynamic behaviour of model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5329080" cy="375768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780000" y="2695680"/>
            <a:ext cx="5111640" cy="370836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724360" y="1413000"/>
            <a:ext cx="3240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resistive capabilities of the small obstacles play an important role in resisting the inundating wa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5280" y="508464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urrently implementation of many small object in ANUGA is computational expensiv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Project aims and outpu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utpu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 of friction values to represent urban scen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earch path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thod of comparison and measure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rban environment variables: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what are they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tch friction values and determine their suitabilit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Heavy Model Math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68360" y="4724280"/>
                <a:ext cx="1800000" cy="1575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∂</m:t>
                            </m:r>
                            <m:r>
                              <m:t xml:space="preserve">z</m:t>
                            </m:r>
                            <m:r>
                              <m:t xml:space="preserve">/</m:t>
                            </m:r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222" name=""/>
          <p:cNvGraphicFramePr/>
          <p:nvPr/>
        </p:nvGraphicFramePr>
        <p:xfrm>
          <a:off x="468360" y="1000080"/>
          <a:ext cx="5761080" cy="3292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000080"/>
                    <a:ext cx="5761080" cy="32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2484360" y="4653000"/>
                <a:ext cx="3206880" cy="15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gη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v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rad>
                      </m:num>
                      <m:den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4</m:t>
                            </m:r>
                            <m:r>
                              <m:t xml:space="preserve">/</m:t>
                            </m:r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  <m:eqArr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0</m:t>
                            </m:r>
                          </m:e>
                          <m:e/>
                        </m:d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uh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4464000" y="9810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H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Volume and Momentum conserv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H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cing terms, gravity and fri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227640" y="2257560"/>
            <a:ext cx="266544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nservation of volume within cell over t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deals with fluxes between ce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0360" y="4941720"/>
            <a:ext cx="298764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gravity forcing 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US" sz="18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riction forcing te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63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Open Channel Flow and Friction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4330440" cy="29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Primarily derived to help with open channel flow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Manning formula calculates equivalent friction bedslop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6084720" y="765000"/>
          <a:ext cx="2303640" cy="1444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84720" y="765000"/>
                    <a:ext cx="2303640" cy="1444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2205000"/>
            <a:ext cx="360036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AU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quivalent bedslope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ri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=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ater volume veloc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h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Water depth of cel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n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empirically derived 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friction coeffici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(0.005 – 0.5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974880" y="4653000"/>
            <a:ext cx="6696000" cy="863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973080" y="4005360"/>
            <a:ext cx="6769080" cy="1511280"/>
          </a:xfrm>
          <a:custGeom>
            <a:avLst/>
            <a:gdLst/>
            <a:ahLst/>
            <a:rect l="l" t="t" r="r" b="b"/>
            <a:pathLst>
              <a:path w="4264" h="952">
                <a:moveTo>
                  <a:pt x="0" y="408"/>
                </a:moveTo>
                <a:lnTo>
                  <a:pt x="0" y="0"/>
                </a:lnTo>
                <a:lnTo>
                  <a:pt x="4264" y="544"/>
                </a:lnTo>
                <a:lnTo>
                  <a:pt x="4264" y="952"/>
                </a:lnTo>
                <a:lnTo>
                  <a:pt x="0" y="408"/>
                </a:lnTo>
                <a:close/>
              </a:path>
            </a:pathLst>
          </a:custGeom>
          <a:solidFill>
            <a:srgbClr val="afe1ff">
              <a:alpha val="46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73080" y="4653000"/>
            <a:ext cx="6769080" cy="1224000"/>
          </a:xfrm>
          <a:custGeom>
            <a:avLst/>
            <a:gdLst/>
            <a:ahLst/>
            <a:rect l="l" t="t" r="r" b="b"/>
            <a:pathLst>
              <a:path w="4264" h="771">
                <a:moveTo>
                  <a:pt x="0" y="0"/>
                </a:moveTo>
                <a:lnTo>
                  <a:pt x="4264" y="544"/>
                </a:lnTo>
                <a:lnTo>
                  <a:pt x="4264" y="771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25440" y="4438800"/>
            <a:ext cx="8282160" cy="79200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25440" y="4581360"/>
            <a:ext cx="8496360" cy="1079640"/>
          </a:xfrm>
          <a:prstGeom prst="line">
            <a:avLst/>
          </a:prstGeom>
          <a:ln w="1260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62160" y="4222800"/>
            <a:ext cx="1727280" cy="2160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622520" y="4438800"/>
            <a:ext cx="1582560" cy="2156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22520" y="4654440"/>
            <a:ext cx="1727280" cy="2160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973080" y="4222800"/>
            <a:ext cx="64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flow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278160" y="5014440"/>
            <a:ext cx="432000" cy="574920"/>
          </a:xfrm>
          <a:prstGeom prst="line">
            <a:avLst/>
          </a:prstGeom>
          <a:ln w="223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333440" y="537372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Friction surf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431560" y="4071960"/>
            <a:ext cx="377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AU" sz="18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471160" y="5295960"/>
            <a:ext cx="413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AU" sz="18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AU" sz="18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08000" y="5877000"/>
            <a:ext cx="403236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ffffff"/>
                </a:solidFill>
                <a:latin typeface="Arial"/>
              </a:rPr>
              <a:t>Steady state is reached when </a:t>
            </a:r>
            <a:r>
              <a:rPr b="1" i="1" lang="en-AU" sz="16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1" i="1" lang="en-AU" sz="1600" spc="-1" strike="noStrike" baseline="-25000">
                <a:solidFill>
                  <a:srgbClr val="ffffff"/>
                </a:solidFill>
                <a:latin typeface="Arial"/>
              </a:rPr>
              <a:t>f</a:t>
            </a:r>
            <a:r>
              <a:rPr b="1" i="1" lang="en-A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A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i="1" lang="en-AU" sz="1600" spc="-1" strike="noStrike">
                <a:solidFill>
                  <a:srgbClr val="ffffff"/>
                </a:solidFill>
                <a:latin typeface="Arial"/>
              </a:rPr>
              <a:t> S</a:t>
            </a:r>
            <a:r>
              <a:rPr b="1" i="1" lang="en-AU" sz="1600" spc="-1" strike="noStrike" baseline="-25000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Model set up: Open channel flow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595520" y="1968480"/>
            <a:ext cx="5794200" cy="3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550280" y="2290680"/>
            <a:ext cx="112716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rea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090880" y="3413160"/>
            <a:ext cx="1127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2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595520" y="2130480"/>
            <a:ext cx="57942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917720" y="2130480"/>
            <a:ext cx="1125360" cy="1125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550280" y="2130480"/>
            <a:ext cx="2880" cy="1125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917720" y="3417840"/>
            <a:ext cx="1125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273320" y="3095640"/>
            <a:ext cx="32220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273320" y="2290680"/>
            <a:ext cx="32220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273320" y="2451240"/>
            <a:ext cx="322200" cy="288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73320" y="2612880"/>
            <a:ext cx="32220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273320" y="2773440"/>
            <a:ext cx="322200" cy="32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273320" y="2935440"/>
            <a:ext cx="32220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24000" y="2451240"/>
            <a:ext cx="9651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W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273320" y="2130480"/>
            <a:ext cx="32220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273320" y="3255840"/>
            <a:ext cx="322200" cy="32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917720" y="2290680"/>
            <a:ext cx="1125360" cy="8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building/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friction zon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043080" y="1585800"/>
            <a:ext cx="3407040" cy="3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9000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ngth = 1000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9" name=""/>
          <p:cNvGrpSpPr/>
          <p:nvPr/>
        </p:nvGrpSpPr>
        <p:grpSpPr>
          <a:xfrm>
            <a:off x="468360" y="4005360"/>
            <a:ext cx="8147160" cy="2501640"/>
            <a:chOff x="468360" y="4005360"/>
            <a:chExt cx="8147160" cy="2501640"/>
          </a:xfrm>
        </p:grpSpPr>
        <p:pic>
          <p:nvPicPr>
            <p:cNvPr id="270" name="" descr=""/>
            <p:cNvPicPr/>
            <p:nvPr/>
          </p:nvPicPr>
          <p:blipFill>
            <a:blip r:embed="rId1"/>
            <a:stretch/>
          </p:blipFill>
          <p:spPr>
            <a:xfrm>
              <a:off x="468360" y="4005360"/>
              <a:ext cx="8147160" cy="250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511200" y="4652640"/>
              <a:ext cx="96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82880" y="522900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225800" y="5084640"/>
              <a:ext cx="322200" cy="10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370160" y="493848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692360" y="5516280"/>
              <a:ext cx="1125720" cy="80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buildings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zo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468360" y="4005360"/>
            <a:ext cx="8147160" cy="2496960"/>
            <a:chOff x="468360" y="4005360"/>
            <a:chExt cx="8147160" cy="2496960"/>
          </a:xfrm>
        </p:grpSpPr>
        <p:pic>
          <p:nvPicPr>
            <p:cNvPr id="277" name="" descr=""/>
            <p:cNvPicPr/>
            <p:nvPr/>
          </p:nvPicPr>
          <p:blipFill>
            <a:blip r:embed="rId2"/>
            <a:stretch/>
          </p:blipFill>
          <p:spPr>
            <a:xfrm>
              <a:off x="468360" y="4005360"/>
              <a:ext cx="8147160" cy="24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1405080" y="5489640"/>
              <a:ext cx="1125720" cy="80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Friction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Arial"/>
                </a:rPr>
                <a:t>zo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68360" y="4581720"/>
              <a:ext cx="96516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ff"/>
                  </a:solidFill>
                  <a:latin typeface="Arial"/>
                </a:rPr>
                <a:t>WA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28720" y="4940280"/>
              <a:ext cx="32256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4360" y="508500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41440" y="522936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020000" y="2133720"/>
            <a:ext cx="322200" cy="1128600"/>
            <a:chOff x="7020000" y="2133720"/>
            <a:chExt cx="322200" cy="1128600"/>
          </a:xfrm>
        </p:grpSpPr>
        <p:sp>
          <p:nvSpPr>
            <p:cNvPr id="284" name=""/>
            <p:cNvSpPr/>
            <p:nvPr/>
          </p:nvSpPr>
          <p:spPr>
            <a:xfrm>
              <a:off x="7020000" y="309888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020000" y="229392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20000" y="2454120"/>
              <a:ext cx="3222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020000" y="2616120"/>
              <a:ext cx="3222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20000" y="2776680"/>
              <a:ext cx="322200" cy="288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020000" y="2938320"/>
              <a:ext cx="322200" cy="180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020000" y="2133720"/>
              <a:ext cx="322200" cy="14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020000" y="3259080"/>
              <a:ext cx="322200" cy="324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1547640" y="2637000"/>
            <a:ext cx="194472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332000" y="4653000"/>
            <a:ext cx="1440" cy="43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547640" y="4653000"/>
            <a:ext cx="1800" cy="43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63640" y="4653000"/>
            <a:ext cx="1800" cy="4334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979640" y="4653000"/>
            <a:ext cx="1440" cy="50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195640" y="4653000"/>
            <a:ext cx="1440" cy="50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411280" y="4653000"/>
            <a:ext cx="1800" cy="50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625840" y="4653000"/>
            <a:ext cx="324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841480" y="4653000"/>
            <a:ext cx="3240" cy="647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57480" y="4653000"/>
            <a:ext cx="3240" cy="64764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258920" y="4653000"/>
            <a:ext cx="1944720" cy="0"/>
          </a:xfrm>
          <a:prstGeom prst="line">
            <a:avLst/>
          </a:prstGeom>
          <a:ln w="2232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356000" y="2276640"/>
            <a:ext cx="172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er Dep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oss S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3564000" y="2492280"/>
            <a:ext cx="792000" cy="1447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11640" y="4365720"/>
            <a:ext cx="1728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ater Dep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ross S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 flipH="1">
            <a:off x="3419640" y="4508640"/>
            <a:ext cx="792000" cy="144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65938 0.00116 L 5.55556E-007 -4.79769E-006 E">
                                      <p:cBhvr>
                                        <p:cTn id="115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7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5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9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3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1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Selection of friction valu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727600" y="1565280"/>
          <a:ext cx="3165480" cy="160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7600" y="1565280"/>
                    <a:ext cx="3165480" cy="160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"/>
          <p:cNvSpPr/>
          <p:nvPr/>
        </p:nvSpPr>
        <p:spPr>
          <a:xfrm>
            <a:off x="5940360" y="3357720"/>
            <a:ext cx="3203640" cy="326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elative RMS test  compared friction and  building water leve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ny friction scenarios were compared to a candidate friction scenari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tched value was deemed to have the lowest RMS valu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5661000"/>
            <a:ext cx="47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1 points were used to compare stage levels at a specific time interv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324000" y="1413000"/>
            <a:ext cx="5327640" cy="39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20m wave best fit friction valu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468360" y="1395360"/>
          <a:ext cx="8675640" cy="4557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395360"/>
                    <a:ext cx="8675640" cy="45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7" name=""/>
          <p:cNvSpPr/>
          <p:nvPr/>
        </p:nvSpPr>
        <p:spPr>
          <a:xfrm flipV="1">
            <a:off x="3276720" y="4941360"/>
            <a:ext cx="43164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6443640" y="4941360"/>
            <a:ext cx="43200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7093080" y="5084280"/>
            <a:ext cx="43164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6948360" y="5084280"/>
            <a:ext cx="43200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6012000" y="4723920"/>
            <a:ext cx="43164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84360" y="602136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st fit friction value is chosen by the minimum of the curv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06280" y="277920"/>
            <a:ext cx="86868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Building orientations and layou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19160" y="150012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017720" y="1951200"/>
            <a:ext cx="225360" cy="22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017720" y="240048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69880" y="1951200"/>
            <a:ext cx="223920" cy="22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468440" y="240048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1919160" y="150012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919160" y="1951200"/>
            <a:ext cx="223920" cy="22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919160" y="240048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370240" y="1500120"/>
            <a:ext cx="2235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370240" y="1951200"/>
            <a:ext cx="223560" cy="22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370240" y="240048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468440" y="150012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017720" y="285120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468440" y="285120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919160" y="285120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370240" y="285120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280120" y="138744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5280120" y="1838160"/>
            <a:ext cx="225360" cy="22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280120" y="2287440"/>
            <a:ext cx="225360" cy="225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730840" y="206208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730840" y="251316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180120" y="138744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180120" y="1838160"/>
            <a:ext cx="225360" cy="2239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180120" y="2287440"/>
            <a:ext cx="223920" cy="225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630840" y="161280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630840" y="206208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630840" y="2513160"/>
            <a:ext cx="2257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30840" y="161280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280120" y="2738520"/>
            <a:ext cx="22536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30840" y="296388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80120" y="2738520"/>
            <a:ext cx="2239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30840" y="2963880"/>
            <a:ext cx="225720" cy="2253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716360" y="206208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716360" y="150012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716360" y="161280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716360" y="172548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716360" y="183816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716360" y="195120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716360" y="138744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716360" y="2174760"/>
            <a:ext cx="45108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716360" y="296388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716360" y="2400480"/>
            <a:ext cx="45108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716360" y="251316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16360" y="262584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16360" y="273852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716360" y="285120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716360" y="2287440"/>
            <a:ext cx="45108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716360" y="3076560"/>
            <a:ext cx="45108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453960" y="1454040"/>
            <a:ext cx="452520" cy="1688760"/>
            <a:chOff x="453960" y="1454040"/>
            <a:chExt cx="452520" cy="1688760"/>
          </a:xfrm>
        </p:grpSpPr>
        <p:sp>
          <p:nvSpPr>
            <p:cNvPr id="373" name=""/>
            <p:cNvSpPr/>
            <p:nvPr/>
          </p:nvSpPr>
          <p:spPr>
            <a:xfrm>
              <a:off x="453960" y="212976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53960" y="156636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53960" y="167904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53960" y="179172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3960" y="190440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53960" y="201708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53960" y="145404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53960" y="224172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53960" y="303048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3960" y="246744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53960" y="258012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960" y="269280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3960" y="280512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3960" y="291780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3960" y="235476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53960" y="3142440"/>
              <a:ext cx="45252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5254560" y="2147760"/>
            <a:ext cx="26352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786280" y="2013120"/>
            <a:ext cx="26856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651640" y="2013120"/>
            <a:ext cx="1440" cy="1346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982800" y="2281320"/>
            <a:ext cx="26496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521000" y="2279520"/>
            <a:ext cx="26352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249880" y="1744560"/>
            <a:ext cx="26352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653080" y="1744560"/>
            <a:ext cx="0" cy="13356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27080" y="2279520"/>
            <a:ext cx="26532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rot="2700000">
            <a:off x="985320" y="3992400"/>
            <a:ext cx="233640" cy="23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rot="2700000">
            <a:off x="983880" y="446076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rot="2700000">
            <a:off x="984600" y="492984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rot="2700000">
            <a:off x="1454400" y="446148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2700000">
            <a:off x="1453680" y="4930920"/>
            <a:ext cx="233280" cy="23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rot="2700000">
            <a:off x="1922760" y="3991320"/>
            <a:ext cx="23364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rot="2700000">
            <a:off x="1922040" y="446076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rot="2700000">
            <a:off x="1922760" y="492984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rot="2700000">
            <a:off x="2392560" y="3991320"/>
            <a:ext cx="23364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rot="2700000">
            <a:off x="2391840" y="446076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2700000">
            <a:off x="2391840" y="4930560"/>
            <a:ext cx="23472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2700000">
            <a:off x="1453680" y="3992400"/>
            <a:ext cx="233640" cy="23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2700000">
            <a:off x="983880" y="539892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2700000">
            <a:off x="1452960" y="5399280"/>
            <a:ext cx="235080" cy="233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2700000">
            <a:off x="1922760" y="539964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2700000">
            <a:off x="2391840" y="539892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2700000">
            <a:off x="5303880" y="3875040"/>
            <a:ext cx="233280" cy="233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2700000">
            <a:off x="5302440" y="4343760"/>
            <a:ext cx="23364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2700000">
            <a:off x="5302440" y="4812120"/>
            <a:ext cx="23364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2700000">
            <a:off x="5772600" y="4578840"/>
            <a:ext cx="23328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2700000">
            <a:off x="5772600" y="5047200"/>
            <a:ext cx="23328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2700000">
            <a:off x="6240960" y="3873960"/>
            <a:ext cx="23328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2700000">
            <a:off x="6240960" y="4343760"/>
            <a:ext cx="23364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2700000">
            <a:off x="6240960" y="4812120"/>
            <a:ext cx="23364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rot="2700000">
            <a:off x="6710760" y="410904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2700000">
            <a:off x="6710040" y="4578120"/>
            <a:ext cx="23472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rot="2700000">
            <a:off x="6710760" y="5047200"/>
            <a:ext cx="2332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rot="2700000">
            <a:off x="5772600" y="4109040"/>
            <a:ext cx="23328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rot="2700000">
            <a:off x="5301720" y="5281560"/>
            <a:ext cx="23508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2700000">
            <a:off x="5772240" y="5516640"/>
            <a:ext cx="23472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rot="2700000">
            <a:off x="6240960" y="5282280"/>
            <a:ext cx="233280" cy="234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 rot="2700000">
            <a:off x="6710040" y="5516280"/>
            <a:ext cx="234720" cy="235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4773600" y="3932280"/>
            <a:ext cx="468360" cy="1758960"/>
            <a:chOff x="4773600" y="3932280"/>
            <a:chExt cx="468360" cy="1758960"/>
          </a:xfrm>
        </p:grpSpPr>
        <p:sp>
          <p:nvSpPr>
            <p:cNvPr id="430" name=""/>
            <p:cNvSpPr/>
            <p:nvPr/>
          </p:nvSpPr>
          <p:spPr>
            <a:xfrm>
              <a:off x="4773600" y="463572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773600" y="404928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73600" y="416664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773600" y="428400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773600" y="440136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773600" y="451836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773600" y="393228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773600" y="475236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4773600" y="557388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73600" y="498744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773600" y="510480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773600" y="522216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4773600" y="533952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773600" y="5456520"/>
              <a:ext cx="46836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73600" y="487044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773600" y="5690520"/>
              <a:ext cx="46836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453960" y="3932280"/>
            <a:ext cx="469800" cy="1758960"/>
            <a:chOff x="453960" y="3932280"/>
            <a:chExt cx="469800" cy="1758960"/>
          </a:xfrm>
        </p:grpSpPr>
        <p:sp>
          <p:nvSpPr>
            <p:cNvPr id="447" name=""/>
            <p:cNvSpPr/>
            <p:nvPr/>
          </p:nvSpPr>
          <p:spPr>
            <a:xfrm>
              <a:off x="453960" y="463572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53960" y="404928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53960" y="416664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53960" y="428400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53960" y="440136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53960" y="451836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53960" y="393228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53960" y="475236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3960" y="557388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53960" y="498744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53960" y="510480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53960" y="522216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53960" y="533952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3960" y="5456520"/>
              <a:ext cx="469800" cy="36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53960" y="487044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53960" y="5690520"/>
              <a:ext cx="469800" cy="720"/>
            </a:xfrm>
            <a:prstGeom prst="line">
              <a:avLst/>
            </a:prstGeom>
            <a:ln w="158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684360" y="595008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se four scenarios were thought to provide the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be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wors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ases for the inundating wa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843280" y="148428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aigh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r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off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020000" y="1413000"/>
            <a:ext cx="212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aight offse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 r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fect’ off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843280" y="4005360"/>
            <a:ext cx="172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Rotated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r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No off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7164360" y="4005360"/>
            <a:ext cx="197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800" spc="-1" strike="noStrike">
                <a:solidFill>
                  <a:srgbClr val="ffffff"/>
                </a:solidFill>
                <a:latin typeface="Arial"/>
              </a:rPr>
              <a:t>Rotated Offset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45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°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 rot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0" lang="en-AU" sz="1800" spc="-1" strike="noStrike">
                <a:solidFill>
                  <a:srgbClr val="ffffff"/>
                </a:solidFill>
                <a:latin typeface="Arial"/>
              </a:rPr>
              <a:t>perfect’ Offs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971640" y="2706840"/>
            <a:ext cx="26496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509840" y="2705040"/>
            <a:ext cx="26352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916280" y="2705040"/>
            <a:ext cx="26496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71640" y="1846440"/>
            <a:ext cx="26496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1509840" y="1844640"/>
            <a:ext cx="26352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16280" y="1844640"/>
            <a:ext cx="264960" cy="18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219640" y="2563920"/>
            <a:ext cx="26352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5751360" y="2428920"/>
            <a:ext cx="26856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616720" y="2428560"/>
            <a:ext cx="1440" cy="1350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19640" y="3059280"/>
            <a:ext cx="263520" cy="144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751360" y="2924280"/>
            <a:ext cx="268560" cy="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5616720" y="2923920"/>
            <a:ext cx="1440" cy="1350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5651640" y="2216160"/>
            <a:ext cx="0" cy="1332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651640" y="2637000"/>
            <a:ext cx="0" cy="133200"/>
          </a:xfrm>
          <a:prstGeom prst="line">
            <a:avLst/>
          </a:prstGeom>
          <a:ln w="158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4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20T00:03:08Z</dcterms:created>
  <dc:creator>dando nicholas</dc:creator>
  <dc:description/>
  <dc:language>en-US</dc:language>
  <cp:lastModifiedBy>dando nicholas</cp:lastModifiedBy>
  <dcterms:modified xsi:type="dcterms:W3CDTF">2006-06-26T06:19:12Z</dcterms:modified>
  <cp:revision>44</cp:revision>
  <dc:subject/>
  <dc:title>Assessing the resistive capabilities of urban environme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