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D58-5E0B-4241-8FBC-F2AD56D0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839-48E9-4999-B9C9-564585B0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E62-A47C-4B60-9175-DAAED31D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DAC-DA27-4EDB-91C7-1D5980A4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C18-12A9-491E-A5F7-C5C16227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A5E-A6CE-48E7-BA60-068BDA00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79A-9B79-44D7-8A94-CF70DF90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4A8-0696-4751-BB24-EEB3998D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079-7014-439F-9B74-FF2BB026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6D9-85C8-4A7C-8640-9C8331C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9C6-010F-47DC-96D4-E1940F0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0BE-A4C2-4966-BFBA-14C8BFF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1A23-9B6C-442B-A49A-A04A524A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7520" y="1773360"/>
          <a:ext cx="8961120" cy="13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773360"/>
                    <a:ext cx="896112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2015640" y="1881360"/>
            <a:ext cx="142920" cy="647640"/>
          </a:xfrm>
          <a:prstGeom prst="upArrow">
            <a:avLst>
              <a:gd name="adj1" fmla="val 50000"/>
              <a:gd name="adj2" fmla="val 113287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981000"/>
            <a:ext cx="142920" cy="647640"/>
          </a:xfrm>
          <a:prstGeom prst="upArrow">
            <a:avLst>
              <a:gd name="adj1" fmla="val 50000"/>
              <a:gd name="adj2" fmla="val 113287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627280" y="189000"/>
          <a:ext cx="1836720" cy="725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89000"/>
                    <a:ext cx="18367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08000" y="1628640"/>
          <a:ext cx="1595520" cy="1776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1628640"/>
                    <a:ext cx="159552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226200" y="0"/>
          <a:ext cx="2727360" cy="1144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6200" y="0"/>
                    <a:ext cx="272736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 rot="10800000">
            <a:off x="7308360" y="980640"/>
            <a:ext cx="142920" cy="647640"/>
          </a:xfrm>
          <a:prstGeom prst="upArrow">
            <a:avLst>
              <a:gd name="adj1" fmla="val 50000"/>
              <a:gd name="adj2" fmla="val 113287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3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22840" y="3429000"/>
            <a:ext cx="5752440" cy="3222000"/>
            <a:chOff x="2922840" y="3429000"/>
            <a:chExt cx="5752440" cy="3222000"/>
          </a:xfrm>
        </p:grpSpPr>
        <p:sp>
          <p:nvSpPr>
            <p:cNvPr id="54" name=""/>
            <p:cNvSpPr/>
            <p:nvPr/>
          </p:nvSpPr>
          <p:spPr>
            <a:xfrm>
              <a:off x="6094080" y="4221360"/>
              <a:ext cx="1244160" cy="2743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92360" y="3429000"/>
              <a:ext cx="142560" cy="647640"/>
            </a:xfrm>
            <a:prstGeom prst="upArrow">
              <a:avLst>
                <a:gd name="adj1" fmla="val 50000"/>
                <a:gd name="adj2" fmla="val 113573"/>
              </a:avLst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14080" y="4221360"/>
              <a:ext cx="770400" cy="2743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ien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1720" y="4221360"/>
              <a:ext cx="915120" cy="2743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03640" y="3429000"/>
              <a:ext cx="142560" cy="647640"/>
            </a:xfrm>
            <a:prstGeom prst="upArrow">
              <a:avLst>
                <a:gd name="adj1" fmla="val 50000"/>
                <a:gd name="adj2" fmla="val 113573"/>
              </a:avLst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29440" y="3429000"/>
              <a:ext cx="142560" cy="647640"/>
            </a:xfrm>
            <a:prstGeom prst="upArrow">
              <a:avLst>
                <a:gd name="adj1" fmla="val 50000"/>
                <a:gd name="adj2" fmla="val 113573"/>
              </a:avLst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9200" y="5734080"/>
              <a:ext cx="1320120" cy="64260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ftware engineer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22840" y="5740560"/>
              <a:ext cx="1397880" cy="64260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ology, geophysic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laeotsunam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ydrodynamic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utational sci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8640" y="5734080"/>
              <a:ext cx="937800" cy="91692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Visualis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atabase?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ient liais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esent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92360" y="4942080"/>
              <a:ext cx="142560" cy="647640"/>
            </a:xfrm>
            <a:prstGeom prst="upArrow">
              <a:avLst>
                <a:gd name="adj1" fmla="val 50000"/>
                <a:gd name="adj2" fmla="val 113573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03640" y="4942080"/>
              <a:ext cx="142560" cy="647640"/>
            </a:xfrm>
            <a:prstGeom prst="upArrow">
              <a:avLst>
                <a:gd name="adj1" fmla="val 50000"/>
                <a:gd name="adj2" fmla="val 113573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61080" y="4942080"/>
              <a:ext cx="142560" cy="647640"/>
            </a:xfrm>
            <a:prstGeom prst="upArrow">
              <a:avLst>
                <a:gd name="adj1" fmla="val 50000"/>
                <a:gd name="adj2" fmla="val 113573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96000" y="5734080"/>
              <a:ext cx="1079280" cy="50544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24960" y="4221360"/>
              <a:ext cx="616320" cy="2743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1080" y="3429000"/>
              <a:ext cx="142560" cy="647640"/>
            </a:xfrm>
            <a:prstGeom prst="upArrow">
              <a:avLst>
                <a:gd name="adj1" fmla="val 50000"/>
                <a:gd name="adj2" fmla="val 113573"/>
              </a:avLst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29440" y="4942080"/>
              <a:ext cx="142560" cy="647640"/>
            </a:xfrm>
            <a:prstGeom prst="upArrow">
              <a:avLst>
                <a:gd name="adj1" fmla="val 50000"/>
                <a:gd name="adj2" fmla="val 113573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6:45:12Z</dcterms:created>
  <dc:creator>sexton jane</dc:creator>
  <dc:description/>
  <dc:language>en-US</dc:language>
  <cp:lastModifiedBy>nielsen ole</cp:lastModifiedBy>
  <dcterms:modified xsi:type="dcterms:W3CDTF">2008-03-17T05:48:30Z</dcterms:modified>
  <cp:revision>13</cp:revision>
  <dc:subject/>
  <dc:title>Slide 1</dc:title>
</cp:coreProperties>
</file>